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002-60C1-4C7C-8958-8788E802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797-5E1B-4E9F-922B-706A2A97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8D7-8369-46F3-B0C1-403E4A43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0AB-C2D2-437A-AA81-5779464C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6AB2-42CC-4925-8CE4-BBE7BD9C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DAAA-E0FE-4C16-A020-B39FCDE4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E634-6410-4597-B6BA-9F5242BC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2FE7-9065-4A42-9FE0-62681451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6C2D-4616-4FB3-90A0-0E24AA0B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6F22-E810-421D-B6FB-47F1CF5C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FA6D-F907-4CDF-8FCA-C9B12A1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5B8-F8B6-4A45-94F7-0E795D9E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9C9-8A99-4DAE-BE40-A31192B6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B1EB-F6FD-4D43-884D-E6B2F3B5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0EB9-DB0C-414E-BAF4-EA82AFB4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B499-9A73-4230-BC3E-6652A1C4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6831-1F29-4A03-AECE-F3258ECA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17D-1089-4700-B9E8-D35A30C7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B67-F9B1-4785-9F49-196508D7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B07-D70D-4493-9F75-97199115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D36-8933-4A18-8729-C07CFC15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795-CC52-4112-B14D-63AB1C55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0A4-6633-48D9-9937-327AFB61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F7C-D0AC-4883-9284-0649DF2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3960" y="523800"/>
            <a:ext cx="438120" cy="5446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6640" y="523800"/>
            <a:ext cx="328680" cy="54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7800" y="946080"/>
            <a:ext cx="422280" cy="544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47880" y="946080"/>
            <a:ext cx="368280" cy="54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3440" y="873000"/>
            <a:ext cx="560520" cy="484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8480" y="415800"/>
            <a:ext cx="31680" cy="12081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9520" y="1206360"/>
            <a:ext cx="822636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1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21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1172-71CD-4CEA-98FB-72400AA457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457C-D460-4B95-898B-7DBC060591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920" y="810720"/>
            <a:ext cx="709128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anel on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Web Services Security</a:t>
            </a:r>
            <a:br>
              <a:rPr sz="48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ASSIS’05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79320" y="3579840"/>
            <a:ext cx="6530760" cy="28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co Cremonini, University of Mi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édric Fournet, Microsoft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dy Gordon, Microsoft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ul Kearney, BT La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k O’Neill, Vor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rgit Pfitzmann, IBM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Sorry Tale of Alan Rals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3692520"/>
            <a:ext cx="7812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v’02: ex-con bankrupt, turned spam millionaire, Alan Ralsky, 57, gives gloating interview, “sends a billion emails per da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days, Net vigilantes find his address, subscribe him to 1000s of catalogues, mailing list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weeks, getting 100s of kgs of junk daily, can’t find real mail: “These people are…harassing 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1000" y="1506600"/>
            <a:ext cx="1587240" cy="201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811" t="14763" r="14764" b="14763"/>
          <a:stretch/>
        </p:blipFill>
        <p:spPr>
          <a:xfrm>
            <a:off x="3351240" y="1509840"/>
            <a:ext cx="28875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48320" y="1514520"/>
            <a:ext cx="2086200" cy="20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013-744F-4755-BA43-08F4EA6C38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205160"/>
            <a:ext cx="3683160" cy="1016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Feature Inte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002: Byers, Rubin, Kormann spell out how web services would help automate a Ralsky-style attac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ry “request catalogue name address postcod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gram visits each page, submits victim’s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Security Proble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cale of attacks possible when a physical process is exposed to auto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 solution is for vendor to use a “human test”, a problem easy for humans, hard for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t little incentive for individual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expect more such problems to emerg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72FA-F3F1-4679-B217-D8CE99C47C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are w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the minimum requirement for a Web Service? Is FTP-ing XML across the network an example of Web Service usag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w that web services are rather widely deployed, what sorts of security issues are actually aris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exibility of mechanism is essential for interoperability, but is the enemy of security.  How do we get the balance righ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600-E55F-4BF4-8492-4F8C14B39C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around 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WS-* the new CORBA or is it the new ED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do Semantic Web technologies fit in with Web Services security, if at a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WS-Security give SOAP an advantage over competitors like XML-RPC or R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85E-DE96-4625-AF91-B861B37B2F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ahea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sues need to be addressed by further resear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a good motivating scenario you use to direct your resear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features might we expect in an XML firewa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ter Kriens: What lessons are we ignor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AED-29EB-4FF3-9FA3-3B6850DDE5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56:09Z</dcterms:created>
  <dc:creator>Andy Gordon</dc:creator>
  <dc:description/>
  <dc:language>en-US</dc:language>
  <cp:lastModifiedBy>Andy Gordon</cp:lastModifiedBy>
  <dcterms:modified xsi:type="dcterms:W3CDTF">2005-03-16T18:27:12Z</dcterms:modified>
  <cp:revision>233</cp:revision>
  <dc:subject/>
  <dc:title>A Semantics for Web Services Security</dc:title>
</cp:coreProperties>
</file>